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3D55-135B-48EA-B4E7-921CBA37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E843-FD7F-4E46-B96D-0280A6E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9D29-5959-4E82-BC25-DF329792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D955-5BEE-499C-B21C-2709B101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09CF-4882-42A0-A14F-500AE861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9FB8-19D2-4CA3-8C85-0D6BA19A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F50-8203-40F6-BFFE-99454930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210-4C3B-49FF-AC5F-E878AC23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4140-3430-4A0D-A596-39432A2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4B84-C046-4B04-AA9C-33FC44DE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A30B-8E21-4C1F-818B-86B9E7F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315F-748A-487B-BFF1-A14D37C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E85E-C93D-4531-83D2-3AA422B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5D45-4A2A-4464-9762-757926DC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32E9-1476-47EC-BFAD-075D057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F27-6CD5-4481-8ECB-A810BFEE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9A31-B69F-471B-ACF3-6841B978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7966-74E4-47E6-9E9F-C9A0EB5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75A7-B495-45FB-ACF3-3801742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645F-3DC3-40E7-86A0-A1D91447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960B-FECC-4515-AF4F-BCC6DBF4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74B7-B927-45A9-A109-A7FD492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0949-09ED-4ABA-AD5B-9AA2BC41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5911-26FA-49E9-A0C5-E8B7011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526-0B78-4F94-B0DE-1373231BE4C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B28E-97F0-4C32-86A5-7CD9266F4C0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-77400"/>
            <a:ext cx="95774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(603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огъща крепост е Бог наш, непобедим Защитник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опасно време - буден Страж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тов е наш Помощни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злобний враг, не сп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лукаво ни лъст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ставя примки т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илен е на бой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добен нему ням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225000"/>
            <a:ext cx="1008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свои сили немощ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ли ще вяра влож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нас се бори праведни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браник славен Бож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питваш: Кой е тоз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Исус Христо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 име се зов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езкрайни веков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вечно побеждав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Макар със врагове безбр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ветът да ни заплаш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е ще напуснем лютий б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ам Бог е Вождът наш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Неговия зрак*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репери злобний враг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 лесно и без стра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трила би на прах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авдива ярост Божи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22644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 Единствен има тез права всесилний Цар на мира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гръмне с яростни сло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ластта Му кой възпира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 Него цял живо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дам и скъп имо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бийте ми тело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нето дел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гда ще тържествув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1:16Z</dcterms:modified>
  <cp:revision>154</cp:revision>
  <dc:subject/>
  <dc:title>Slide 1</dc:title>
</cp:coreProperties>
</file>